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919080" y="744120"/>
            <a:ext cx="49593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02C7-5B88-4CF4-A7AC-079EEAA344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F052-D2C6-44B0-AEFC-BE39C10FF91B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59360" cy="372132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DE05-45D5-4677-9648-9A3530E9FAEF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980-3378-44F2-BA12-AC9F1851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428-8912-43AA-98BA-4A26FFC7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DBB2-E12A-4452-8C34-FC39412F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DC803-8399-4067-B14C-D1019FE3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C0E3A-67A4-4BFF-8245-A4549333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702BD-38A4-4A6D-A33E-A8EDD7BC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1E99F-16FD-4D02-B9C3-BEEB5D42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4CF69-DE2B-4A78-A322-0ED3F19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96BF4-2D26-409A-BF57-CC77D5ED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525CF-FB45-4104-9A87-381DCBDF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81A40-F30F-4A22-B7A1-FE9A66D0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0A1A3-14F2-4325-A917-87BB31A8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423-B975-4CD8-BBA5-08C34323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B337D-EE2A-4DC1-84E1-7B9A111D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48DA8-76AB-4980-BEF1-C50747E9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3D8DC-09CD-4937-A25E-B9496038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58045-F0F7-41AE-AB86-3A20B59E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FBD3B-B71B-426F-910D-ABCA1BDF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24881-0569-46AD-8750-576CFB70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2882BF-07F5-4E4C-86A2-8AED4B08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C0F09-6D6E-4E6C-BC0A-9B4F4E88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FAA57-575F-406E-A87A-0616067A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69F80-B0B5-4738-9517-F1520777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AF6-7258-4452-A73A-5C002178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515B8-BB0A-4401-96A5-B5C1DC8C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1355B-8898-46F6-BEEF-CC0CAFB4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4B896-515F-4BF9-817E-D0A71623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C9970-9BAC-40D8-AD35-E013280C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B92D3-6C9B-43AE-89B9-4F18AF6F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1F0A4-0434-4A3E-AC9B-07BFE6D5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1593B-A5E1-41E5-BE1D-C171A4C3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BDDC2-E46D-4D89-9B20-9A929518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04BCE-6659-48DC-BE1D-23AE4EF8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EFDF1-9190-4A9B-89C5-0E52A65B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C833-70FA-454C-B1AA-53D57D91C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D9097-89E7-489E-A87D-8B5A112F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77618-5E8E-41B7-B0DE-B9391501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6EDFC-36E3-4729-9A41-5B4ADC74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A5BFD-DA2B-4ECD-B076-1F916EA0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7BC2F-1F3D-46F7-95DF-3A27DF01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E2B43-44E8-4D7E-A233-6D12CA23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3100C-A9F1-427E-A968-7A98AABE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357EB-B311-4C88-AAE7-0F022CB6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E80CA-0FEA-446B-98FE-5076FCFE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3133E-F9A8-46D6-A97D-FC3D489F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5B8E-17B3-4A7A-A01D-648BE5CC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2DA95-13A7-472B-A4A4-23AEF8EE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806AD-3449-4565-8270-B1BCCB90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31EBE-631C-4598-A367-AA080DCD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0AE6D-C4EE-4993-98FD-ACB0B804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C3647-D66D-4663-8EAC-5D8291D9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4AC0-8B5E-4728-B41A-16CFAF80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C928-6219-4A6A-9B6C-7E2AE99A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14E5-57D7-4907-BA4A-205DD1F7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0441-09AF-4FAF-8948-75BE0686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BF8E-82A0-4D2A-BA3B-D52F6121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4BF-C819-4205-A10A-A8D1AC7E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263E-58B9-485D-B956-A1452AB1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EC54-E9B9-4B82-B309-16C24B17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F08D-21BE-4093-8DB6-DB879133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D9C9-D6C2-4152-8280-33EFAF80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F3CB-C09F-4A47-B48A-55138476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2658-5987-45F0-906D-C39E4C6C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E47E5-B5B1-4C67-8287-4F1CFCF1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FC810-5C57-4E13-B5A3-A5E1C949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95BD-48CE-4272-94B6-A4CCBAD9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1BDB-D734-4CA8-8ACE-FFAB08AB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CDC-0D2A-40B7-A140-530791B7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80FD-897C-4245-8B6A-25B9FC56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72C5D-8FC5-442F-AEB3-AA351816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AD97F-1594-429A-ADBC-EDBDE06D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55ABB-201D-4462-B386-91455137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364D3-556A-4907-9C9E-EB4F0596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460DB-943E-4F9C-8997-5F0A59A0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F96D-343B-486B-8FBB-7D18C470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A24D1-2E38-4915-B3E1-B298EEB3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E985A-73E4-4618-9301-D0DA555D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16FD0-13E9-442B-A8AC-D17361AD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34D4-0F59-491A-AB17-B420229D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9247A-78BC-4DA3-911D-29F658EE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0CDA3-615D-4E92-82DC-C8B5C9FE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32E32-AC28-499A-8C52-A6B83CA4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550C-DE16-4BF9-842A-7124E11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4918D-9CFE-40E1-902D-6A5270D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CF318-2102-43BC-AEAA-F5E0487A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9BDFE-49F8-4DB1-958A-4B6E71C6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1C3CD-76E5-4B94-B30D-22373E57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5A7E6-1562-4E23-944A-71C97B99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6C974-024B-4F01-8BEF-0B90D99A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8BB-4E57-44AC-80BB-8469017F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2A916-0E66-4560-B758-F64D6F15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53B19-2C22-4EC1-AD64-953ABC97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9ABEE-F11C-4247-9EE0-E81B3FF0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BA60C-5E6B-469D-99C2-1C2F3733D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1B7F9-03EB-4E4B-A041-330B1379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B6D3-ADB0-425E-BDBD-15BA48B6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A63F-4658-46C6-B6FF-96E81A23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4395F-A6CD-40EB-83C7-19C9C3C1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A667C-2386-4A2E-970E-D732B79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6E6E2-CC52-42E2-8880-2F40988C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E98-2220-4BE8-86E0-CF380AA3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12AB6-22B1-46A8-AB20-F34A11F8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B13C0-698D-4864-AC2B-79EC2E20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C3ED9-E57B-442C-9E60-1D031520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BEB6D-5EA6-4E5B-AC2C-A6891BA0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64E7D-CF08-4601-8D3D-AF94471C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F82E3-6FA0-4B7A-AC38-2561671C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6155E-F905-43BA-A52E-263F0688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5C3C3-EE8F-460D-92C1-355F7B02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4714E-40A7-4F10-A60C-F7C2727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F8238-3DA6-49DE-8185-AF43DDEF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19F-24C8-4D71-BAAF-2F99A579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6D439-E989-4B41-81E9-DF735A59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A60C5-167A-4117-91EA-1437412F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ACF2F-03A6-4611-AE93-297FC042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60040-4719-4137-81DD-A5E8CCCF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9D6B0-7CEF-474A-A63C-5007DDBF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329CE-348E-4F2E-9771-D79813D8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C4B71-120C-4F19-B106-D0658450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A437B-4809-4929-8858-3CC25595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3FAD8-9478-4AF1-A649-5BC2D4FC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ACC6A-32DF-4506-8591-046632CC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F66-3A9D-4615-881C-614F3013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88525-90E1-4819-8BD7-D5B9284D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5FA3D-1505-43DC-8550-155C9A10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B6285-17A4-4E66-9A96-B7548C92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7D23F-4025-46F9-9379-13296D38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19065-234B-4E4E-BE89-6A510003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244C8-83CB-4DE8-B379-B8A09D5F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6F3E9-65EC-4E30-86CA-AC6151B2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83A29-FC5C-4BCB-BB4D-6C0BB25D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DA832-F812-41AE-9009-C079C0DF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E275F-E4A5-4686-BBC0-F655C967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3F5-C533-446B-B7D0-7B99200C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889F1-E655-4EAF-8BB9-B492CA87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06355-1180-43C3-90E9-2AD4B846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D5128-8089-49D0-BB32-B186A428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D2479-DDDF-4561-9FB1-DB425167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9DB0D-8F23-4D18-87A8-13F6E2F8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B1396-AE2D-4935-A40C-EBAF1E4E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2EA62-BC85-435E-BC2C-1F691079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BCE46-EBE3-4E11-90AF-30FB6B8F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1F85C-7078-4098-8EB5-1BAB4152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E161E-C071-4200-81F5-52687286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FB03-4AE9-4ED7-A8C3-4A6E959FA260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2683-78AA-4ECB-9DE3-ACD565765079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FBCA-B69C-4F4D-BA46-5CF937334F57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8071-F285-42BD-8EC2-5099D77FBFD8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5FCA-4DEF-46A8-A105-5426FD28089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094F-5C7A-4926-AB12-92903F6B32A6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4B61-B4FA-4BD9-9E23-78A56A8EFECF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321B-141D-4F2B-8DA8-EF5AD69B4378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FD4E-B0EE-4608-A195-8E586ACE51A6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0ACB-491F-406B-A2DC-5396A66289BA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0FDF-0A0C-4BFB-B830-ED0DAE062DE3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F70B-A72E-4196-995D-D10D0D009049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179280" y="260280"/>
            <a:ext cx="8777520" cy="2398680"/>
          </a:xfrm>
          <a:prstGeom prst="rect">
            <a:avLst/>
          </a:prstGeom>
          <a:solidFill>
            <a:srgbClr val="5069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Уральское управление Ростехнадзора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Межрегиональный отдел горного надзор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ТОГИ РАБОТЫ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5 месяцев 2024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6" name="Picture 6" descr="C:\Users\v.noskov\Desktop\Задания\2019 год\Презентация АВ (В РАБОТЕ!)\Логотип РТН.png"/>
          <p:cNvPicPr/>
          <p:nvPr/>
        </p:nvPicPr>
        <p:blipFill>
          <a:blip r:embed="rId1"/>
          <a:stretch/>
        </p:blipFill>
        <p:spPr>
          <a:xfrm>
            <a:off x="324000" y="700200"/>
            <a:ext cx="1295280" cy="151920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ая соединительная линия 2"/>
          <p:cNvSpPr/>
          <p:nvPr/>
        </p:nvSpPr>
        <p:spPr>
          <a:xfrm>
            <a:off x="1835280" y="1460520"/>
            <a:ext cx="6408720" cy="0"/>
          </a:xfrm>
          <a:prstGeom prst="line">
            <a:avLst/>
          </a:prstGeom>
          <a:ln w="12600">
            <a:solidFill>
              <a:srgbClr val="559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8" name="Рисунок 1" descr=""/>
          <p:cNvPicPr/>
          <p:nvPr/>
        </p:nvPicPr>
        <p:blipFill>
          <a:blip r:embed="rId2"/>
          <a:stretch/>
        </p:blipFill>
        <p:spPr>
          <a:xfrm>
            <a:off x="179280" y="2952720"/>
            <a:ext cx="551520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3"/>
          <p:cNvSpPr/>
          <p:nvPr/>
        </p:nvSpPr>
        <p:spPr>
          <a:xfrm>
            <a:off x="324000" y="44280"/>
            <a:ext cx="8496000" cy="65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мертельный травматизм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.02.2024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опасном производственном объекте I класса опасности шахте «Южная» ОАО «ВГОК» горный мастер подземного комплексного участка № 3 шахты «Южная» Кузнецов Е.С. сообщил горному диспетчеру, что по окончании смены из шахты не выехал машинист скреперной лебедки подземного комплексного участка № 3 Попов А.С. Были организованы поиски Попова А.С. силами работников шахты. Машинист скреперной лебедки Попов А.С. был найден на пластинчатом питателе дробилки гор.-333м. Пострадавший был вывезен на поверхность, где работники скорой помощи констатировали смерть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7.04.2024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ООО «РемЭнергоМонтаж» фабрике обогащения рудного сырья чёрных металлов АО «ЕВРАЗ КГОК», произошел несчастный случай со смертельным исходом со слесарем по ремонту оборудования Макаревичем В.А. ООО «РемЭнергоМонтаж». По предварительной информации в результате ремонтных работ на конвейере произошло затягивание пострадавшего под вращающийся вал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3"/>
          <p:cNvSpPr/>
          <p:nvPr/>
        </p:nvSpPr>
        <p:spPr>
          <a:xfrm>
            <a:off x="324000" y="44280"/>
            <a:ext cx="8496000" cy="70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.05.2024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в АО «ЕВРАЗ КГОК» водитель автосамосвала БелАЗ-75131 гар.№13 работник ООО «Ванадий-транспорт» Абдрахманов Урал Фаритович (1987г.р., стаж с 07.2023г.) выполнял по наряд-заданию перевозку горной массы от ЭКГ №58 на п/пункты №1,2 в Главном карьере. В 15:35 час. при движении груженого БелАЗа вверх по технологической дороге №8, не доезжая отм. +100 м, самовал остановился, водитель сообщил по радиосвязи  о неисправности двигателя (двигатель заглох и не заводился) и запросил техпомощи. Через 5,5 мин. после этого БелАЗ покатился по дороге вниз, наехал на бровку автодороги и упал вниз на борт карьера через 5 уступов (высота падения около 75 м.). В результате аварии работник был обнаружен под завалами горной массы без признаков жизни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.05.2024</a:t>
            </a: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14 часов 00 минут  на ОПО «Фабрика агломерационная № 5» ПАО «Магнитогорский металлургический комбинат» При перемещении по рабочему проходу, вдоль конвейера СК-04 бункеровщик Чемезова Кристина Артуровна упала в ремонтный люк (d=800 мм) бункера №1 с отм. +22.500м на отм. +9.500м, поучив в результате травмы не совместимые с жизнью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3"/>
          <p:cNvSpPr/>
          <p:nvPr/>
        </p:nvSpPr>
        <p:spPr>
          <a:xfrm>
            <a:off x="324000" y="44280"/>
            <a:ext cx="849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7.05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16 часов 30 минут  на ОПО «Цех дробильно-сортировочный» ПАО «Магнитогорский металлургический комбинат». Для выполнения работ по замене резинового уплотнения (борта) укрытия ленточного конвейера № 32 Ильин В.А. поднялся на ленту остановленного, но не обесточенного конвейера № 32. В момент нахождения работника на ленте, конвейер пришел в движение, в результате чего, Ильин В.А. был затянут движущейся лентой под укрытие перегрузочного устройства, получил при этом травмы, не совместимые с жизнью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Box 3"/>
          <p:cNvSpPr/>
          <p:nvPr/>
        </p:nvSpPr>
        <p:spPr>
          <a:xfrm>
            <a:off x="324000" y="4428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яжелые несчастные случаи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.01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ОО «Краснотурьинск Полиметалл» при выполнении работ, не предусмотренных нарядом, самостоятельно приняв решение оказать помощь в ремонте колеса погрузчика, при ударе кувалдой по стопорному кольцу колеса, находившегося в накаченном состоянии, разблокировал стопорное кольцо и от удара вылетевшего диска и покрышки, бункеровщик получил удар по нижней части тела. Получена тяжелая травма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несчастного случая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удовлетворительное содержание и недостатки в организации рабочих мест.      - Не осуществлен контроль за работником, выполняющим работы, предусмотренные нарядом;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достаточная организация производственного контрол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3"/>
          <p:cNvSpPr/>
          <p:nvPr/>
        </p:nvSpPr>
        <p:spPr>
          <a:xfrm>
            <a:off x="324000" y="44280"/>
            <a:ext cx="849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.02.2024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ГОК «Березняковский» АО «Южуралзолото группа компаний»</a:t>
            </a: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дождавшись остановки мельницы, машинист принял решение осмотреть работу механизмов и произвести очистку каретки загрузочного устройства мельницы от негабаритов при помощи лома. Для этого, не дождавшись остановки МПСИ поднялся на ограждение барабана мельницы. Затем в пространство между вращающейся мельницей и загрузочным устройством засунул лом, в загрузочную каретку с целью, расшевелить негабаритный кусок породы, при этом второй конец лома попал в зону действия вращения мельницы в результате чего лом спружинил в сторону  пострадавшего и ударив его по голове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несчастного случая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совершенство технологического процесса;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удовлетворительная организация производства работ;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достаточная организация производственного контрол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3"/>
          <p:cNvSpPr/>
          <p:nvPr/>
        </p:nvSpPr>
        <p:spPr>
          <a:xfrm>
            <a:off x="324000" y="44280"/>
            <a:ext cx="8496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1.04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10 часов 50 минут  на карьере  ООО «Гумбейский щебеночный завод» при выполнении ремонтных работ машинист буровой установки Захаров Дмитрий Николаевич в 10.50 во время откручивания второго штуцера, конец рукава высокого давления резко сорвало и гайкой ударило по левой ноге, в результате чего работник получил тяжелую  травму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несчастного случая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Монтаж (демонтаж) неисправных машин, механизмов, оборуд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удовлетворительная организация производства работ,;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достатки в организации и проведении подготовки работников по охране труда, в том числе не проведение обучения и проверки знаний охраны труда;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324000" y="4428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0.04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в  шахте  «Кальинская» АО «СУБР» произошел горный удар в блоке 11 север гор. – 1130 м. В результате обрушения горной массы пострадал машинист буровой установки участка «Профилактики и предупреждения горных ударов», получил тяжелую травму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Прямоугольник 4"/>
          <p:cNvSpPr/>
          <p:nvPr/>
        </p:nvSpPr>
        <p:spPr>
          <a:xfrm>
            <a:off x="900000" y="189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0" name="TextBox 16"/>
          <p:cNvSpPr/>
          <p:nvPr/>
        </p:nvSpPr>
        <p:spPr>
          <a:xfrm>
            <a:off x="318960" y="132732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рольно (надзорные)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роприятия 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1" name="TextBox 17"/>
          <p:cNvSpPr/>
          <p:nvPr/>
        </p:nvSpPr>
        <p:spPr>
          <a:xfrm>
            <a:off x="5796000" y="1327320"/>
            <a:ext cx="32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ленные нарушения требований промышленной безопасности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602" name="Диаграмма 1" descr=""/>
          <p:cNvPicPr/>
          <p:nvPr/>
        </p:nvPicPr>
        <p:blipFill>
          <a:blip r:embed="rId1"/>
          <a:stretch/>
        </p:blipFill>
        <p:spPr>
          <a:xfrm>
            <a:off x="268200" y="1938240"/>
            <a:ext cx="4067280" cy="4165560"/>
          </a:xfrm>
          <a:prstGeom prst="rect">
            <a:avLst/>
          </a:prstGeom>
          <a:ln w="0">
            <a:noFill/>
          </a:ln>
        </p:spPr>
      </p:pic>
      <p:pic>
        <p:nvPicPr>
          <p:cNvPr id="603" name="Диаграмма 7" descr=""/>
          <p:cNvPicPr/>
          <p:nvPr/>
        </p:nvPicPr>
        <p:blipFill>
          <a:blip r:embed="rId2"/>
          <a:stretch/>
        </p:blipFill>
        <p:spPr>
          <a:xfrm>
            <a:off x="4808520" y="2009880"/>
            <a:ext cx="4067280" cy="4165560"/>
          </a:xfrm>
          <a:prstGeom prst="rect">
            <a:avLst/>
          </a:prstGeom>
          <a:ln w="0">
            <a:noFill/>
          </a:ln>
        </p:spPr>
      </p:pic>
      <p:sp>
        <p:nvSpPr>
          <p:cNvPr id="604" name="Надпись 2"/>
          <p:cNvSpPr/>
          <p:nvPr/>
        </p:nvSpPr>
        <p:spPr>
          <a:xfrm>
            <a:off x="1258920" y="4292640"/>
            <a:ext cx="34272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Calibri"/>
                <a:ea typeface="Calibri"/>
              </a:rPr>
              <a:t>19</a:t>
            </a:r>
            <a:endParaRPr b="0" lang="en-US" sz="1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5" name="Надпись 2"/>
          <p:cNvSpPr/>
          <p:nvPr/>
        </p:nvSpPr>
        <p:spPr>
          <a:xfrm>
            <a:off x="1692360" y="4292640"/>
            <a:ext cx="3585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26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6" name="Надпись 2"/>
          <p:cNvSpPr/>
          <p:nvPr/>
        </p:nvSpPr>
        <p:spPr>
          <a:xfrm>
            <a:off x="2197080" y="2235240"/>
            <a:ext cx="414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277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7" name="Надпись 2"/>
          <p:cNvSpPr/>
          <p:nvPr/>
        </p:nvSpPr>
        <p:spPr>
          <a:xfrm>
            <a:off x="2611440" y="2637000"/>
            <a:ext cx="43164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Arial"/>
              </a:rPr>
              <a:t>226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8" name="Надпись 2"/>
          <p:cNvSpPr/>
          <p:nvPr/>
        </p:nvSpPr>
        <p:spPr>
          <a:xfrm>
            <a:off x="5665680" y="3860640"/>
            <a:ext cx="4161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libri"/>
                <a:ea typeface="Calibri"/>
              </a:rPr>
              <a:t>191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9" name="Надпись 2"/>
          <p:cNvSpPr/>
          <p:nvPr/>
        </p:nvSpPr>
        <p:spPr>
          <a:xfrm>
            <a:off x="6081840" y="3745080"/>
            <a:ext cx="399960" cy="23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214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0" name="Надпись 2"/>
          <p:cNvSpPr/>
          <p:nvPr/>
        </p:nvSpPr>
        <p:spPr>
          <a:xfrm>
            <a:off x="6659640" y="2751120"/>
            <a:ext cx="43344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libri"/>
                <a:ea typeface="Calibri"/>
              </a:rPr>
              <a:t>518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1" name="Надпись 2"/>
          <p:cNvSpPr/>
          <p:nvPr/>
        </p:nvSpPr>
        <p:spPr>
          <a:xfrm>
            <a:off x="7149960" y="2232000"/>
            <a:ext cx="44640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libri"/>
                <a:ea typeface="Calibri"/>
              </a:rPr>
              <a:t>654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-5040" y="1014480"/>
            <a:ext cx="3074760" cy="89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Количество административных штрафов 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13" name="Заголовок 2"/>
          <p:cNvSpPr/>
          <p:nvPr/>
        </p:nvSpPr>
        <p:spPr>
          <a:xfrm>
            <a:off x="6043680" y="887400"/>
            <a:ext cx="3394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Сумма наложенных штрафов,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59e"/>
                </a:solidFill>
                <a:latin typeface="Times New Roman"/>
                <a:ea typeface="Times New Roman"/>
              </a:rPr>
              <a:t>тыс. рублей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4" name="TextBox 5"/>
          <p:cNvSpPr/>
          <p:nvPr/>
        </p:nvSpPr>
        <p:spPr>
          <a:xfrm>
            <a:off x="1619280" y="1112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ДМИНИСТРАТИВНОЕ ДЕЛОПРОИЗВОДСТВ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615" name="Диаграмма 1" descr=""/>
          <p:cNvPicPr/>
          <p:nvPr/>
        </p:nvPicPr>
        <p:blipFill>
          <a:blip r:embed="rId1"/>
          <a:stretch/>
        </p:blipFill>
        <p:spPr>
          <a:xfrm>
            <a:off x="57240" y="1085760"/>
            <a:ext cx="4886280" cy="5832720"/>
          </a:xfrm>
          <a:prstGeom prst="rect">
            <a:avLst/>
          </a:prstGeom>
          <a:ln w="0">
            <a:noFill/>
          </a:ln>
        </p:spPr>
      </p:pic>
      <p:pic>
        <p:nvPicPr>
          <p:cNvPr id="616" name="Диаграмма 9" descr=""/>
          <p:cNvPicPr/>
          <p:nvPr/>
        </p:nvPicPr>
        <p:blipFill>
          <a:blip r:embed="rId2"/>
          <a:stretch/>
        </p:blipFill>
        <p:spPr>
          <a:xfrm>
            <a:off x="4859280" y="1389240"/>
            <a:ext cx="4392720" cy="4906800"/>
          </a:xfrm>
          <a:prstGeom prst="rect">
            <a:avLst/>
          </a:prstGeom>
          <a:ln w="0">
            <a:noFill/>
          </a:ln>
        </p:spPr>
      </p:pic>
      <p:sp>
        <p:nvSpPr>
          <p:cNvPr id="617" name="Надпись 2"/>
          <p:cNvSpPr/>
          <p:nvPr/>
        </p:nvSpPr>
        <p:spPr>
          <a:xfrm>
            <a:off x="2340000" y="3971880"/>
            <a:ext cx="574560" cy="303120"/>
          </a:xfrm>
          <a:prstGeom prst="rect">
            <a:avLst/>
          </a:prstGeom>
          <a:solidFill>
            <a:srgbClr val="76c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80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8" name="Надпись 2"/>
          <p:cNvSpPr/>
          <p:nvPr/>
        </p:nvSpPr>
        <p:spPr>
          <a:xfrm>
            <a:off x="873000" y="3560760"/>
            <a:ext cx="576360" cy="303120"/>
          </a:xfrm>
          <a:prstGeom prst="rect">
            <a:avLst/>
          </a:prstGeom>
          <a:solidFill>
            <a:srgbClr val="fea0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73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9" name="Надпись 2"/>
          <p:cNvSpPr/>
          <p:nvPr/>
        </p:nvSpPr>
        <p:spPr>
          <a:xfrm>
            <a:off x="5508720" y="3409920"/>
            <a:ext cx="687240" cy="301680"/>
          </a:xfrm>
          <a:prstGeom prst="rect">
            <a:avLst/>
          </a:prstGeom>
          <a:solidFill>
            <a:srgbClr val="fea02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3020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0" name="Надпись 2"/>
          <p:cNvSpPr/>
          <p:nvPr/>
        </p:nvSpPr>
        <p:spPr>
          <a:xfrm>
            <a:off x="6588000" y="4141800"/>
            <a:ext cx="720720" cy="303120"/>
          </a:xfrm>
          <a:prstGeom prst="rect">
            <a:avLst/>
          </a:prstGeom>
          <a:solidFill>
            <a:srgbClr val="76c5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  <a:ea typeface="Calibri"/>
              </a:rPr>
              <a:t>3110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6"/>
          <p:cNvSpPr/>
          <p:nvPr/>
        </p:nvSpPr>
        <p:spPr>
          <a:xfrm>
            <a:off x="754200" y="26028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установленных требований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2" name="TextBox 7"/>
          <p:cNvSpPr/>
          <p:nvPr/>
        </p:nvSpPr>
        <p:spPr>
          <a:xfrm>
            <a:off x="324000" y="98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3" name="TextBox 3"/>
          <p:cNvSpPr/>
          <p:nvPr/>
        </p:nvSpPr>
        <p:spPr>
          <a:xfrm>
            <a:off x="324000" y="8413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Arial"/>
              </a:rPr>
              <a:t>Производственный контроль за соблюдением требований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68200" y="2276640"/>
          <a:ext cx="8444160" cy="3044520"/>
        </p:xfrm>
        <a:graphic>
          <a:graphicData uri="http://schemas.openxmlformats.org/drawingml/2006/table">
            <a:tbl>
              <a:tblPr/>
              <a:tblGrid>
                <a:gridCol w="4222800"/>
                <a:gridCol w="4221360"/>
              </a:tblGrid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вердловская, Челябинская и Курганская области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Закреплено за отделом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283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Рассмотрено отчетов о ПК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Деятельность не ведется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ведений не предоставлено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33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  <p:sp>
        <p:nvSpPr>
          <p:cNvPr id="625" name="TextBox 11"/>
          <p:cNvSpPr/>
          <p:nvPr/>
        </p:nvSpPr>
        <p:spPr>
          <a:xfrm>
            <a:off x="216000" y="5445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ланируется привлечение к административной ответственности, организаций не предоставивших отчет об организации производственного контроля за соблюдением требований промышленной безопасност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6" name="Прямоугольник 1"/>
          <p:cNvSpPr/>
          <p:nvPr/>
        </p:nvSpPr>
        <p:spPr>
          <a:xfrm>
            <a:off x="216000" y="162396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 межрегиональным отделом горного надзора закреплено 283 предприятий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C:\Users\v.noskov\Desktop\uralskiy.jpg"/>
          <p:cNvPicPr/>
          <p:nvPr/>
        </p:nvPicPr>
        <p:blipFill>
          <a:blip r:embed="rId1"/>
          <a:stretch/>
        </p:blipFill>
        <p:spPr>
          <a:xfrm>
            <a:off x="596880" y="1481040"/>
            <a:ext cx="4681440" cy="4730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7920" y="188640"/>
            <a:ext cx="9151920" cy="129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остоянию на 01.06.2024 Уральским управлением Ростехнадзора зарегистрировано 266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рганизаци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эксплуатирующих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16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О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днадзорных горному надзору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61" name="TextBox 1"/>
          <p:cNvSpPr/>
          <p:nvPr/>
        </p:nvSpPr>
        <p:spPr>
          <a:xfrm>
            <a:off x="6026040" y="2276640"/>
            <a:ext cx="302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еляби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93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217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урга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6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2" name="Овал 1"/>
          <p:cNvSpPr/>
          <p:nvPr/>
        </p:nvSpPr>
        <p:spPr>
          <a:xfrm>
            <a:off x="971640" y="2471760"/>
            <a:ext cx="3671640" cy="3602160"/>
          </a:xfrm>
          <a:prstGeom prst="ellipse">
            <a:avLst/>
          </a:prstGeom>
          <a:noFill/>
          <a:ln w="25560">
            <a:solidFill>
              <a:srgbClr val="427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6"/>
          <p:cNvSpPr/>
          <p:nvPr/>
        </p:nvSpPr>
        <p:spPr>
          <a:xfrm>
            <a:off x="765000" y="115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установленных требований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8" name="TextBox 7"/>
          <p:cNvSpPr/>
          <p:nvPr/>
        </p:nvSpPr>
        <p:spPr>
          <a:xfrm>
            <a:off x="358920" y="1341360"/>
            <a:ext cx="828036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ходе мероприятий по контролю выявлялись факты эксплуатации зданий и сооружений без проведения экспертизы промышленной безопасности, а также без выполнения мероприятий указанных в экспертизе промышленной безопасности. По данным фактам составлялись протоколы об административной ответственности и направлялись в суд для административного приостановления деятельност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9" name="Прямоугольник 3"/>
          <p:cNvSpPr/>
          <p:nvPr/>
        </p:nvSpPr>
        <p:spPr>
          <a:xfrm>
            <a:off x="2471760" y="763560"/>
            <a:ext cx="46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Экспертиза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6"/>
          <p:cNvSpPr/>
          <p:nvPr/>
        </p:nvSpPr>
        <p:spPr>
          <a:xfrm>
            <a:off x="765000" y="115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установленных требований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1" name="Прямоугольник 1"/>
          <p:cNvSpPr/>
          <p:nvPr/>
        </p:nvSpPr>
        <p:spPr>
          <a:xfrm>
            <a:off x="660960" y="76356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трахование ответственности за причинения вреда при эксплуатации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2" name="Прямоугольник 4"/>
          <p:cNvSpPr/>
          <p:nvPr/>
        </p:nvSpPr>
        <p:spPr>
          <a:xfrm>
            <a:off x="225360" y="1484280"/>
            <a:ext cx="8728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 надзором межрегионального отдела горного надзора находится 283 организации эксплуатирующие опасные производственные объект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состоянию на 01.06.2024, полис обязательного страхования гражданской ответственности отсутствует у 10 организаций, которые, в настоящий момент, не ведут деятельность в области промышленной безопасности. Таким образом, процент организации с отсутствующим полисом страхования, составляет – 2,3 %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данным предприятиям будет проводиться проверка на наличие признаков опасности с последующим исключением из государственного реестра опасных производственных объектов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Прямоугольник 1"/>
          <p:cNvSpPr/>
          <p:nvPr/>
        </p:nvSpPr>
        <p:spPr>
          <a:xfrm>
            <a:off x="2411280" y="18900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показателей лицензирования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4" name="Прямоугольник 2"/>
          <p:cNvSpPr/>
          <p:nvPr/>
        </p:nvSpPr>
        <p:spPr>
          <a:xfrm>
            <a:off x="108000" y="603360"/>
            <a:ext cx="90360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 надзором межрегионального отдела горного надзора находится 283 организации эксплуатирующие опасные производственные объект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ез лицензии числится 1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предприятий на которых лицензионная деятельность не ведется по следующим причинам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квидации из ЕГРЮ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ведено конкурсное управление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тсутствует эксплуатирующий персонал, эксплуатация ОПО не вед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Прямоугольник 4"/>
          <p:cNvSpPr/>
          <p:nvPr/>
        </p:nvSpPr>
        <p:spPr>
          <a:xfrm>
            <a:off x="140328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щая оценка состояния безопасности и противоаварийная устойчивость предприятий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6" name="Прямоугольник 5"/>
          <p:cNvSpPr/>
          <p:nvPr/>
        </p:nvSpPr>
        <p:spPr>
          <a:xfrm>
            <a:off x="395280" y="69372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целях обеспечения готовности организаций, эксплуатирующих опасные производственные объекты, к действиям по локализации и ликвидации последствий аварий, на всех ОПО разработан план мероприятий по локализации и ликвидации последствий аварий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существляется контроль за проведением учебных тревог, в том числе при проведении постоянного государственного надзора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се предприятия имеют договор аварийного прикрытия с аварийно-спасательными формированиями (АСФ) или аварийно-спасательными службами (АСС). У некоторых предприятий имеются собственные АСС или АСФ в виде отдельных подразделений или отдельных юридических лиц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тивоаварийную устойчивость опасных производственных объектов, поднадзорных межрегиональному отделу горного надзора Уральского управления Ростехнадзора можно охарактеризовать, как – удовлетворительную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4" descr="F:\20191101104057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5492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07640" y="1628280"/>
            <a:ext cx="547236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mbria"/>
              </a:rPr>
              <a:t>СПАСИБО ЗА ВНИМАНИЕ</a:t>
            </a:r>
            <a:endParaRPr b="0" lang="en-US" sz="40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1"/>
          <p:cNvSpPr/>
          <p:nvPr/>
        </p:nvSpPr>
        <p:spPr>
          <a:xfrm>
            <a:off x="611280" y="33336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арактеристики поднадзорных производств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пределение ОПО по классам 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64" name="Диаграмма 4" descr=""/>
          <p:cNvPicPr/>
          <p:nvPr/>
        </p:nvPicPr>
        <p:blipFill>
          <a:blip r:embed="rId1"/>
          <a:stretch/>
        </p:blipFill>
        <p:spPr>
          <a:xfrm>
            <a:off x="200160" y="1346040"/>
            <a:ext cx="8743680" cy="5302440"/>
          </a:xfrm>
          <a:prstGeom prst="rect">
            <a:avLst/>
          </a:prstGeom>
          <a:ln w="0">
            <a:noFill/>
          </a:ln>
        </p:spPr>
      </p:pic>
      <p:sp>
        <p:nvSpPr>
          <p:cNvPr id="565" name="Надпись 2"/>
          <p:cNvSpPr/>
          <p:nvPr/>
        </p:nvSpPr>
        <p:spPr>
          <a:xfrm>
            <a:off x="1042920" y="5516640"/>
            <a:ext cx="360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2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6" name="Надпись 2"/>
          <p:cNvSpPr/>
          <p:nvPr/>
        </p:nvSpPr>
        <p:spPr>
          <a:xfrm>
            <a:off x="1403280" y="5554800"/>
            <a:ext cx="360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1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7" name="Надпись 2"/>
          <p:cNvSpPr/>
          <p:nvPr/>
        </p:nvSpPr>
        <p:spPr>
          <a:xfrm>
            <a:off x="2340000" y="5084640"/>
            <a:ext cx="3603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30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8" name="Надпись 2"/>
          <p:cNvSpPr/>
          <p:nvPr/>
        </p:nvSpPr>
        <p:spPr>
          <a:xfrm>
            <a:off x="2700360" y="4940280"/>
            <a:ext cx="35892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35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9" name="Надпись 2"/>
          <p:cNvSpPr/>
          <p:nvPr/>
        </p:nvSpPr>
        <p:spPr>
          <a:xfrm>
            <a:off x="2987640" y="5886360"/>
            <a:ext cx="3603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0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0" name="Надпись 2"/>
          <p:cNvSpPr/>
          <p:nvPr/>
        </p:nvSpPr>
        <p:spPr>
          <a:xfrm>
            <a:off x="3564000" y="1773360"/>
            <a:ext cx="43164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61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1" name="Надпись 2"/>
          <p:cNvSpPr/>
          <p:nvPr/>
        </p:nvSpPr>
        <p:spPr>
          <a:xfrm>
            <a:off x="4316400" y="5746680"/>
            <a:ext cx="360360" cy="23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3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2" name="Надпись 2"/>
          <p:cNvSpPr/>
          <p:nvPr/>
        </p:nvSpPr>
        <p:spPr>
          <a:xfrm>
            <a:off x="4932360" y="5486400"/>
            <a:ext cx="360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4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3" name="Надпись 2"/>
          <p:cNvSpPr/>
          <p:nvPr/>
        </p:nvSpPr>
        <p:spPr>
          <a:xfrm>
            <a:off x="5273640" y="5602320"/>
            <a:ext cx="360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0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4" name="Надпись 2"/>
          <p:cNvSpPr/>
          <p:nvPr/>
        </p:nvSpPr>
        <p:spPr>
          <a:xfrm>
            <a:off x="5580000" y="5784840"/>
            <a:ext cx="36036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2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5" name="Надпись 2"/>
          <p:cNvSpPr/>
          <p:nvPr/>
        </p:nvSpPr>
        <p:spPr>
          <a:xfrm>
            <a:off x="3995640" y="2421000"/>
            <a:ext cx="43200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Calibri"/>
                <a:ea typeface="Calibri"/>
              </a:rPr>
              <a:t>137</a:t>
            </a: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"/>
          <p:cNvGraphicFramePr/>
          <p:nvPr/>
        </p:nvGraphicFramePr>
        <p:xfrm>
          <a:off x="225360" y="1916280"/>
          <a:ext cx="8739360" cy="4856040"/>
        </p:xfrm>
        <a:graphic>
          <a:graphicData uri="http://schemas.openxmlformats.org/drawingml/2006/table">
            <a:tbl>
              <a:tblPr/>
              <a:tblGrid>
                <a:gridCol w="1617840"/>
                <a:gridCol w="3271680"/>
                <a:gridCol w="3849840"/>
              </a:tblGrid>
              <a:tr h="55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едприятие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тепень травмирования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30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.01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Краснотурьинск Полиметалл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ел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.02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АО «Высокогорский горно-обогатительный комбинат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мертельн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91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.02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Южуралзолото группа компаний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ел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.02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Березовский рудник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ппово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5.03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Севуралбокситруда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ппово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8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.04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Богословское рудоуправление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ар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59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1.04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Богословское рудоуправление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рупповой несчастный случай в результате аварии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1.04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«Гумбейский щебеночный завод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ел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.04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ОО "РемЭнергоМонтаж"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мертельн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.04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Севуралбокситруда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яжел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.05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ЕВРАЗ КГОК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вария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.05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О «ЕВРАЗ КГОК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мертельный несчастный случай в результате аварии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.05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О «Магнитогорский металлургический комбинат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мертельн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42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.05.2024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АО «Магнитогорский металлургический комбинат»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мертельный несчастный случай</a:t>
                      </a:r>
                      <a:endParaRPr b="0" lang="en-US" sz="11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  <p:pic>
        <p:nvPicPr>
          <p:cNvPr id="577" name="Рисунок 6" descr=""/>
          <p:cNvPicPr/>
          <p:nvPr/>
        </p:nvPicPr>
        <p:blipFill>
          <a:blip r:embed="rId1"/>
          <a:stretch/>
        </p:blipFill>
        <p:spPr>
          <a:xfrm>
            <a:off x="2716200" y="60480"/>
            <a:ext cx="2994120" cy="2068200"/>
          </a:xfrm>
          <a:prstGeom prst="rect">
            <a:avLst/>
          </a:prstGeom>
          <a:ln w="0">
            <a:noFill/>
          </a:ln>
        </p:spPr>
      </p:pic>
      <p:sp>
        <p:nvSpPr>
          <p:cNvPr id="578" name="TextBox 1"/>
          <p:cNvSpPr/>
          <p:nvPr/>
        </p:nvSpPr>
        <p:spPr>
          <a:xfrm>
            <a:off x="5076720" y="425520"/>
            <a:ext cx="388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оказатели аварийности и производственного травматизм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9" name="Прямая соединительная линия 3"/>
          <p:cNvSpPr/>
          <p:nvPr/>
        </p:nvSpPr>
        <p:spPr>
          <a:xfrm>
            <a:off x="5076720" y="171360"/>
            <a:ext cx="0" cy="1846440"/>
          </a:xfrm>
          <a:prstGeom prst="line">
            <a:avLst/>
          </a:prstGeom>
          <a:ln w="57240">
            <a:solidFill>
              <a:srgbClr val="002e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0" name="TextBox 10"/>
          <p:cNvSpPr/>
          <p:nvPr/>
        </p:nvSpPr>
        <p:spPr>
          <a:xfrm rot="907200">
            <a:off x="402480" y="417600"/>
            <a:ext cx="343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Т Р А В М А Т И З М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1"/>
          <p:cNvSpPr/>
          <p:nvPr/>
        </p:nvSpPr>
        <p:spPr>
          <a:xfrm>
            <a:off x="127080" y="627120"/>
            <a:ext cx="874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инамика травматизма, аварий и инцидентов на ОПО за 5 месяцев 2023 и 2024 года.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82" name="Диаграмма 1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8076960" cy="513720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4" name="Rectangle 2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5" name="Надпись 2"/>
          <p:cNvSpPr/>
          <p:nvPr/>
        </p:nvSpPr>
        <p:spPr>
          <a:xfrm>
            <a:off x="7093080" y="3645000"/>
            <a:ext cx="3222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2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6" name="Надпись 2"/>
          <p:cNvSpPr/>
          <p:nvPr/>
        </p:nvSpPr>
        <p:spPr>
          <a:xfrm>
            <a:off x="5364000" y="3605040"/>
            <a:ext cx="28764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1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7" name="Надпись 2"/>
          <p:cNvSpPr/>
          <p:nvPr/>
        </p:nvSpPr>
        <p:spPr>
          <a:xfrm>
            <a:off x="3997440" y="2781360"/>
            <a:ext cx="40464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mbria"/>
              </a:rPr>
              <a:t>3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3"/>
          <p:cNvSpPr/>
          <p:nvPr/>
        </p:nvSpPr>
        <p:spPr>
          <a:xfrm>
            <a:off x="324000" y="44280"/>
            <a:ext cx="8496000" cy="72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писание обстоятельств и причин аварий и несчастных случаев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арии: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1.04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 шахте Северопесчанская АО «БРУ» при подготовки к разделки негабарита на скреперном штреке горизонта -338м Верхней залежи, предварительно при нарушении монтажа электровзрывной сети произошел неконтролируемый взрыв. В результате чего было травмировано 4 человека: машинист скреперной лебедки, три проходчика, один из которых погиб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ятые меры: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тношении АО «БРУ» ш. «Северопесчанская» составлен протокол о временном запрете деятельности горизонта -338м, составлен протокол об административном приостановлении деятельности этого же горизонта и направлен в Краснотурьинский городской суд. Судом принято решение о приостановлении деятельности горинта -338м на 90 суток. Также у данной организации приостановлено действие разрешения на проведение взрывных работ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3"/>
          <p:cNvSpPr/>
          <p:nvPr/>
        </p:nvSpPr>
        <p:spPr>
          <a:xfrm>
            <a:off x="324000" y="44280"/>
            <a:ext cx="8496000" cy="59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арии: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3.05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в АО «ЕВРАЗ КГОК» водитель автосамосвала БелАЗ-75131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ар. № 13 работник ООО «Ванадий-транспорт» Абдрахманов Урал Фаритович (1987г.р., стаж с 07.2023г.) выполнял по наряд-заданию перевозку горной массы от ЭКГ №58 на п/пункты №1,2 в Главном карьере. В 15:35 час. при движении груженого БелАЗа вверх по технологической дороге №8, не доезжая отм. +100 м, самовал остановился, водитель сообщил по радиосвязи  о неисправности двигателя (двигатель заглох и не заводился) и запросил техпомощи. Через 5,5 мин. после этого БелАЗ покатился по дороге вниз, наехал на бровку автодороги и упал вниз на борт карьера через 5 уступов (высота падения около 75 м.). Работник был обнаружен под завалами горной массы без признаков жизн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3"/>
          <p:cNvSpPr/>
          <p:nvPr/>
        </p:nvSpPr>
        <p:spPr>
          <a:xfrm>
            <a:off x="324000" y="44280"/>
            <a:ext cx="849600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упповые несчастные случаи: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1.02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опасном производственном объекте I класса опасности «Березовский рудник» ООО «Березовский рудник» при переезде работников с горизонта 612м. на горизонт 512м. во время начала движения клети с людьми с горизонта 612м. произошло падение порожнего вагона ВГ-2,2 с горизонта 512 метров на клеть. В клети находилось 2 человека, получившие тяжелую и легкую травм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тсутствие контроля за выполнением вагонообмена, а именно: эксплуатация клети с зафиксированными концевыми выключателями стволовых решеток, в результате чего стало возможно падение вагонетки грузовой шахтной ВГ-2,2 в ствол «Слепая-4» с последующим трамированием пострадавших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ненадлежащее осуществление производственного контроля за выполнением технологических операций на ОПО Рудник подземный «Березовский»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324000" y="44280"/>
            <a:ext cx="8496000" cy="65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5.03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опасном производственном объекте I класса опасности шахте «Кальинская» АО «СУБР» во время производства забойного цикла по панельному штреку «ЮГ» отм.-1096м. В блоке 13-й северный -1130 в 04:22 произошло сейсмическое событие, обрушение покрывающих пород блока на протяжении 7 метров по панельному штреку. В результате обрушения пострадало 2 человека. Тяжелая и смертельная травм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01.04.2024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 шахте Сверопесчанская АО «БРУ» при подготовки к разделки негабарита на скреперном штреке горизонта -338м Верхней залежи, предварительно при нарушении монтажа электровзрывной сети произошел неконтролируемый взрыв. В результате чего было травмировано 4 человека: машинист скреперной лебедки, три проходчика, один из которых погиб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ледование продолжа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05:35:47Z</dcterms:created>
  <dc:creator>ОПО</dc:creator>
  <dc:description/>
  <dc:language>en-US</dc:language>
  <cp:lastModifiedBy>Пищальников Иван Игоревич</cp:lastModifiedBy>
  <cp:lastPrinted>2024-01-31T13:25:05Z</cp:lastPrinted>
  <dcterms:modified xsi:type="dcterms:W3CDTF">2024-06-07T06:39:22Z</dcterms:modified>
  <cp:revision>677</cp:revision>
  <dc:subject/>
  <dc:title>Презентация PowerPoint</dc:title>
</cp:coreProperties>
</file>