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095-A8C0-484D-A400-CFAE749255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A53A-2B9A-4B90-94C5-86B84DED9696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0FD9-903C-4659-8E94-097B318DCA1D}" type="slidenum">
              <a:rPr b="0" lang="ru-RU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C0D-E21F-4F37-BADE-FF5AA06E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2AF-541E-46C7-9AA5-44F2501F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49D44-0DFA-4FD9-8D52-6D49FAEE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44AC6-B577-4314-B50D-A591949B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2707F-2F56-4862-9B7E-BC96EB68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3AD95-FFB5-4D8F-A7F1-1B5E0727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AAD0C-B5A5-4CEE-9DA9-B6FC1668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6FF57-B0C5-4F89-B746-427D066C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C38A9-EBC2-41E2-8A3B-E08E2F33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747AF-2326-4B5E-828A-13EF82E4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8BD14-C077-4F31-B2F3-448FCE8A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60555-A685-4392-8367-165B5529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772-7B4C-40C3-A7AD-7CB62FD4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20C93-ECD1-4F14-BE99-BB402D65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FFDA2-D362-4B3A-AD92-C9377780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1C13B-FC16-4C9D-A736-EF7E0B3B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09BCB-CD57-46FE-918F-0A4F0243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4871C-E23F-48E9-BD0B-79A4E95D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B77F1-740A-493C-9DCC-7D53CCE8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2D0E2-A4CB-4E98-8C3C-AE5439D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1E835-9221-4830-BC2A-798707C1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7484F-1602-4394-86C2-7B1C02E0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492A0-F6AB-4578-A783-88620D10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68E-ED45-4B24-922A-2931BFAA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BB094-8F9A-4F3B-90A5-A6E5A9EC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522A9-CB80-4909-8B9E-60310E02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EC4FD-D1FC-4D64-BFDA-EAB32364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4BCB5-4B98-4A3B-A37F-DD0B19B2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34049-8A74-4C63-9819-863E1DC1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213D1-76BE-454B-BE49-24C7B3BC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69ADD-0F65-40AC-8CF7-1A561824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05306-F9F9-48C3-ADDF-F4722D0B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13C27-B5A7-40BD-820D-1F052DA0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D886B-A067-499E-847C-51226092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5E6D-F73A-4773-B4F5-3E3057CD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15B26-1ADB-40FA-B435-032DF349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9FA5C-068D-42FC-8B06-21AD2E68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08F7A-DF7A-4BA2-BC75-83B28461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E0D69-F69E-425C-B717-1F9561DD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22A6D-C7C6-42E6-9025-9AD33683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A23E9-41AF-459B-A952-DBED09A9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BAF59-AE83-4EC9-B289-40115602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C4665-3A21-4998-A279-4B780FF7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8C55F-EE71-41A5-9BED-100A2EBA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EC6BB-F283-4C1D-B391-D720A3FD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4AAF-543D-49A3-A31A-36D0648D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0A659-A015-43A4-AE63-538D494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3F2AB-A53B-4D52-B44C-82B6FFA5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45DA7-9FE9-4ABE-9096-3136674F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231F9-ABAC-4BA4-9C45-0C78DBEA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34250-9AE8-4BB2-B624-A527A20C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F254-4067-42F8-9DC7-0F15818E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D8F5-55D8-4FE8-A100-EFFC2F6C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90FE-523C-45EF-BCB2-1BC0178E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4925-AFD3-401F-8775-29680321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DB37-42BD-4B12-89D0-E10FC5DB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F4F-BAB4-4F68-9BE2-CA40026E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CDAE-B5D4-44A9-B181-45E7EF2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ED3E-3CB9-4035-AC6C-3970FD87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99F0-3620-4C66-BD06-91FA56C5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B97D-698C-4070-8DEE-BCB5D790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B291-D8B0-49A3-A2FC-1B2A2B4A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E8FF-E2FD-42F1-A417-85E7D058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8C88E-1975-4910-A618-E169ADD9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CA2F-55FC-4201-AAF8-52492F3E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8B14-42F2-4E0B-933C-14E2636C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AAC40-5BDA-437E-94E4-FC86A79E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1CB-5774-4C53-AB66-7E0614E7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A7A1-0FAE-4951-8FEC-26F1CBA3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6B2C-118E-482F-93F7-4CE6AE2B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D431E-990F-42E8-BB75-CF835A2F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F8F3-DB3D-4A9E-AA99-FDBC28F1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286E-D07B-4831-9E73-C262CC2C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06EB7-02E3-4E69-B757-76F3F1DF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040E5-0AF5-49F3-BE56-25272140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DC2C-FD72-43A9-972D-5C85DCAE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860E-FA67-4F73-8ED4-085B42D8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F4E65-FF35-473F-A323-075F5966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595-E47B-496D-9037-5780DE54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9BC3F-E9B8-4BDC-B657-CE826899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7A925-6803-44BF-92D1-162DF09E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F5DEF-E1BA-4412-8B52-A54875FA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B84D5-60E7-4A20-89AF-B4994FDA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27EB9-4A47-4325-B0DA-037573B9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BF1E3-5583-4FAC-9052-774D084F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09E5A-7478-4758-88F1-7896E0FF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AAF6-6111-4C4E-B33A-8E5B46DA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D1B6-6AB7-4982-9A96-B481CB14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DFC8-EAB1-457C-A8BD-19470558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A92-9FC7-4105-9EC8-4C178752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1C2B-0D5C-4D67-BF5A-33DF721A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E2C22-CBAA-4CAE-A863-13A079D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89A0-1F1C-4ED7-9AB1-6D0C6857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1ADC-D1E1-47C0-A6DE-C7EE97A9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E9187-3D31-4329-BFB6-19900A3C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FE5A-68AE-4733-B2DB-E8800D12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539DF-5C52-4662-BA2D-CDD7E20E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CF7D0-C45D-4C21-B66C-66BBA4D8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681D3-95B8-499F-BA3A-99839DF6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E94DD-EF24-45FC-B156-1627995A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E26-92A8-48DB-83A5-9CDAD2C9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2D0C8-75BF-4734-8C09-B778682B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6A2C9-7DE0-4D80-A3F2-F84FF27F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C7812-40CC-4B6C-9F4A-027BD6BE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95DBC-BC93-4204-8C1E-678BC466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CC46F-E23D-41A5-82EF-9FB9F8D6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E59B0-BE0F-41D1-9ED0-EC0B4AD2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8FE7A-2B57-4686-A6A6-C2049D1E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0839F-B20F-4679-A98E-58C5220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E514D-0B6B-4044-B523-F23E9C53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F9E78-19F6-4C18-9E7C-F4E64AED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4CA-8E38-4E59-B901-CDBB4E2C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3A5FB-7002-43E8-975D-1145E83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0FBCF-2924-4ABA-808C-CA1FDA9B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5F0B-613B-42B8-991E-7E8B92E6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39E07-6B26-40A6-8117-3393FAC7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B06DC-EF62-460B-805B-95E4680A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FB1BF-A2B3-4E7F-A3C6-200078C0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BD38A-EA21-442A-92D8-855BA7EB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55F81-8654-45A9-AFA9-59252233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419F4-411C-42F5-BFBF-86B06CB5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E2B21-A261-4A8F-BBC7-93BE4033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4A0-35E5-4973-A63F-40480E67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B1B23-0A0B-4895-83F1-C271D6FF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B9650-B213-43AC-AE13-B5DA81F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19C25-CB87-478C-8389-D138D65D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FFDAF-D2D9-457D-B969-E5D675A3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A48D-07AC-4185-851B-04AC0B2D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83FC2-07E8-4A5C-AD14-F2028061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19C4-3F98-4F90-9BB2-058D35B0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126B0-5B12-4AE6-9914-5EB0FE41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5ED70-52D9-4559-8E1C-8526E16A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FF613-7E7E-4265-88C3-4717457B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3A7-D0C2-4615-8C15-F0D9EE1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5B7F3-AE1E-4A6D-8CC3-25EB92C7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DC4BF-8A07-4B8A-8B1B-A07A9EB9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2BB1C-FB74-40D1-899E-2289529E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297A2-9964-4149-B0A0-82C3C55C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5852E-4BED-4339-9A99-712F8CCD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D6730-968E-428A-9B4C-8B3A71C4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95198-2C92-4E0A-B3DE-A42B23F2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21ED9-1CD9-4734-A6CE-90623277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24BE2-07A3-4F7D-AA89-7A53D596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A9BA0-C686-4BAA-A574-02A35626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17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16EB-5F38-4BC4-96AA-86B993052986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533160" y="-979560"/>
            <a:ext cx="667224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283680" y="5968800"/>
            <a:ext cx="530064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6931080" y="-242640"/>
            <a:ext cx="243360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5899320" y="1282680"/>
            <a:ext cx="38430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6992280" y="5713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647280" y="5161680"/>
            <a:ext cx="2976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7046640" y="390600"/>
            <a:ext cx="196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DB8-D8CD-4A98-AF07-D7603560F1D5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894960" y="-766800"/>
            <a:ext cx="833292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65160" y="5089320"/>
            <a:ext cx="852804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8534160" y="3839760"/>
            <a:ext cx="10112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7587720" y="-321840"/>
            <a:ext cx="197676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6995880" y="62384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5320800" y="609444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8182080" y="3246480"/>
            <a:ext cx="907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E3FF-073F-4CEA-A915-CCFEEA7E36CA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882720" y="-625320"/>
            <a:ext cx="744084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3227400" y="6273360"/>
            <a:ext cx="43956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7659720" y="5459040"/>
            <a:ext cx="170964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6665400" y="-490320"/>
            <a:ext cx="30672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4997160" y="6187680"/>
            <a:ext cx="2381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B008-A533-4B6E-9BCD-B816803A269A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617400" y="-651960"/>
            <a:ext cx="666432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6167160" y="-441360"/>
            <a:ext cx="312732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7143480" y="2001960"/>
            <a:ext cx="267948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06280" y="3322800"/>
            <a:ext cx="737856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6741720" y="231264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6551280" y="1528560"/>
            <a:ext cx="2465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6451200" y="1162080"/>
            <a:ext cx="213372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AE16-392F-46C4-A745-294DA5AA0F6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1690560" y="607680"/>
            <a:ext cx="1789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3102840" y="6176520"/>
            <a:ext cx="239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265400" y="299160"/>
            <a:ext cx="2287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3A43-4802-4A9F-A57F-54F1FC83513B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56880" y="-1017720"/>
            <a:ext cx="741204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776160" y="2417760"/>
            <a:ext cx="699768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6337080" y="3774600"/>
            <a:ext cx="310356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7327800" y="-104400"/>
            <a:ext cx="235116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6878160" y="376056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7056000" y="3169800"/>
            <a:ext cx="192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7176600" y="2660760"/>
            <a:ext cx="68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F34C-FE63-4265-8DDD-37892CA442B5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7756560" y="588780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4053960" y="5494320"/>
            <a:ext cx="3124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7689960" y="5643360"/>
            <a:ext cx="124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7384-3AEE-4D55-979F-4AB7D19ED6FC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882720" y="-625320"/>
            <a:ext cx="743904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3236760" y="6275160"/>
            <a:ext cx="438804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7660800" y="5462640"/>
            <a:ext cx="170820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6667560" y="-490320"/>
            <a:ext cx="306540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4051080" y="549504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BCBB-7F13-46ED-A64F-6325050155F8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865080" y="850680"/>
            <a:ext cx="361476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17280" y="-511200"/>
            <a:ext cx="373536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146320" y="6589440"/>
            <a:ext cx="19810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3184200" y="-553680"/>
            <a:ext cx="678348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1692000" y="612360"/>
            <a:ext cx="179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2493720" y="6100560"/>
            <a:ext cx="305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261800" y="301680"/>
            <a:ext cx="228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13AD-8FA2-4E6B-8557-EE977F2F708C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371520" y="-1217160"/>
            <a:ext cx="857736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449280" y="5208120"/>
            <a:ext cx="747072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7192800" y="6483240"/>
            <a:ext cx="19321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8126280" y="92160"/>
            <a:ext cx="187956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7521120" y="5927400"/>
            <a:ext cx="152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3892320" y="5987880"/>
            <a:ext cx="312408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7598520" y="5570640"/>
            <a:ext cx="716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7164-2F91-4231-A618-C42105520B6B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896400" y="-623880"/>
            <a:ext cx="728640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64800" y="5378400"/>
            <a:ext cx="744228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7661160" y="5459400"/>
            <a:ext cx="170820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6673320" y="-490320"/>
            <a:ext cx="305928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7752960" y="588816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c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4264200" y="6098760"/>
            <a:ext cx="30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7689600" y="5641920"/>
            <a:ext cx="124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c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0D49-432A-4791-A7AA-005D669D35EC}" type="slidenum">
              <a:rPr b="0" lang="ru-RU" sz="2400" spc="-1" strike="noStrike">
                <a:solidFill>
                  <a:srgbClr val="898c9d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179280" y="260280"/>
            <a:ext cx="8777520" cy="2560680"/>
          </a:xfrm>
          <a:prstGeom prst="rect">
            <a:avLst/>
          </a:prstGeom>
          <a:solidFill>
            <a:srgbClr val="5069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Уральское управление Ростехнадзора 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Межрегиональный отдел металлургического надзор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организации 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уществления государственного контроля (надзора) на объектах металлургической 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ксохимической промышленности в 2024 году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6" name="Picture 6" descr="C:\Users\v.noskov\Desktop\Задания\2019 год\Презентация АВ (В РАБОТЕ!)\Логотип РТН.png"/>
          <p:cNvPicPr/>
          <p:nvPr/>
        </p:nvPicPr>
        <p:blipFill>
          <a:blip r:embed="rId1"/>
          <a:stretch/>
        </p:blipFill>
        <p:spPr>
          <a:xfrm>
            <a:off x="324000" y="404640"/>
            <a:ext cx="1295280" cy="151956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ая соединительная линия 2"/>
          <p:cNvSpPr/>
          <p:nvPr/>
        </p:nvSpPr>
        <p:spPr>
          <a:xfrm>
            <a:off x="1835280" y="1460520"/>
            <a:ext cx="6408720" cy="0"/>
          </a:xfrm>
          <a:prstGeom prst="line">
            <a:avLst/>
          </a:prstGeom>
          <a:ln w="12600">
            <a:solidFill>
              <a:srgbClr val="559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58" name="Picture 7" descr="C:\Users\v.noskov\Desktop\foto.jpg"/>
          <p:cNvPicPr/>
          <p:nvPr/>
        </p:nvPicPr>
        <p:blipFill>
          <a:blip r:embed="rId2"/>
          <a:stretch/>
        </p:blipFill>
        <p:spPr>
          <a:xfrm>
            <a:off x="179280" y="2924280"/>
            <a:ext cx="5548320" cy="370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539640" y="765000"/>
            <a:ext cx="8136000" cy="5421600"/>
          </a:xfrm>
          <a:prstGeom prst="rect">
            <a:avLst/>
          </a:prstGeom>
          <a:solidFill>
            <a:srgbClr val="50698e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Основные причины травматизма: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Организационные причины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удовлетворительная организация производства работ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эффективность производственного контроля за соблюдением требований промышленной безопасности.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Cambria"/>
                <a:ea typeface="Times New Roman"/>
              </a:rPr>
              <a:t>Технические причины</a:t>
            </a:r>
            <a:endParaRPr b="0" lang="en-US" sz="28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еудовлетворительное состояние технических устройств, сооружений, оборудования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нарушение технологии производства работ;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  <a:ea typeface="Times New Roman"/>
              </a:rPr>
              <a:t>- конструктивные недостатки оборудования.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96" name="Прямоугольник 1"/>
          <p:cNvSpPr/>
          <p:nvPr/>
        </p:nvSpPr>
        <p:spPr>
          <a:xfrm>
            <a:off x="536400" y="189000"/>
            <a:ext cx="81378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оказатели аварийности и производственного травматизм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287280" y="981000"/>
          <a:ext cx="8640720" cy="4857840"/>
        </p:xfrm>
        <a:graphic>
          <a:graphicData uri="http://schemas.openxmlformats.org/drawingml/2006/table">
            <a:tbl>
              <a:tblPr/>
              <a:tblGrid>
                <a:gridCol w="7323120"/>
                <a:gridCol w="1317600"/>
              </a:tblGrid>
              <a:tr h="75420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4 в сравнении с 2023 годом     (1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56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 в 2023 г.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0316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в 2024 г.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6120"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0 %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7480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3 г., по итогам проведения которых выявлены правонарушения (выданы предписания)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3000">
                <a:tc>
                  <a:txBody>
                    <a:bodyPr lIns="61920" rIns="61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4 г., по итогам проведения которых выявлены правонарушения (выданы предписания)</a:t>
                      </a:r>
                      <a:endParaRPr b="0" lang="en-US" sz="16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8" name="Прямоугольник 3"/>
          <p:cNvSpPr/>
          <p:nvPr/>
        </p:nvSpPr>
        <p:spPr>
          <a:xfrm>
            <a:off x="250920" y="11592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9" name=""/>
          <p:cNvGraphicFramePr/>
          <p:nvPr/>
        </p:nvGraphicFramePr>
        <p:xfrm>
          <a:off x="324000" y="1052640"/>
          <a:ext cx="8569080" cy="5472000"/>
        </p:xfrm>
        <a:graphic>
          <a:graphicData uri="http://schemas.openxmlformats.org/drawingml/2006/table">
            <a:tbl>
              <a:tblPr/>
              <a:tblGrid>
                <a:gridCol w="7059600"/>
                <a:gridCol w="1509480"/>
              </a:tblGrid>
              <a:tr h="55080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4 в сравнении с 2023 годом     (2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7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3 г., по итогам которых, по фактам нарушений возбуждены адм. дел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8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65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оверок в 2024 г., по итогам которых, по фактам нарушений возбуждены адм. дел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4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- 21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8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ыявлено правонарушений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377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0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Выявлено правонарушений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409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8,5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0" name="Прямоугольник 3"/>
          <p:cNvSpPr/>
          <p:nvPr/>
        </p:nvSpPr>
        <p:spPr>
          <a:xfrm>
            <a:off x="250920" y="1890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1" name=""/>
          <p:cNvGraphicFramePr/>
          <p:nvPr/>
        </p:nvGraphicFramePr>
        <p:xfrm>
          <a:off x="250920" y="744480"/>
          <a:ext cx="8712000" cy="6035760"/>
        </p:xfrm>
        <a:graphic>
          <a:graphicData uri="http://schemas.openxmlformats.org/drawingml/2006/table">
            <a:tbl>
              <a:tblPr/>
              <a:tblGrid>
                <a:gridCol w="7383240"/>
                <a:gridCol w="1328760"/>
              </a:tblGrid>
              <a:tr h="45720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4 в сравнении с 2023 годом     (3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9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предписание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9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предписание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6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23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9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инспекторов в отделе (на 01.06.2023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6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7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инспекторов в отделе (на 01.06.2024) 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30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- 19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96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на 1 инспектора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,7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лановых проверок на 1 инспектора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2,1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7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Arial Narrow"/>
                        </a:rPr>
                        <a:t>(Вывод: количество плановых проверок на 1 инспектора возросло в связи с уменьшением количества инспекторов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22,8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02" name="Прямоугольник 3"/>
          <p:cNvSpPr/>
          <p:nvPr/>
        </p:nvSpPr>
        <p:spPr>
          <a:xfrm>
            <a:off x="250920" y="36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179280" y="981000"/>
          <a:ext cx="8785440" cy="5699160"/>
        </p:xfrm>
        <a:graphic>
          <a:graphicData uri="http://schemas.openxmlformats.org/drawingml/2006/table">
            <a:tbl>
              <a:tblPr/>
              <a:tblGrid>
                <a:gridCol w="6400800"/>
                <a:gridCol w="2384640"/>
              </a:tblGrid>
              <a:tr h="371520"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Плановые проверки 2024 в сравнении с 2023 годом     (4)</a:t>
                      </a:r>
                      <a:endParaRPr b="0" lang="en-US" sz="2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едписаний на 1 инспектора при плановых проверках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1,75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5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предписаний на 1 инспектора при плановых проверках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9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14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инспектора при плановых проверках в 2023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23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8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Количество нарушений на 1 инспектора при плановых проверках в 2024 г.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31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46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Изменения, %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2d050"/>
                          </a:solidFill>
                          <a:latin typeface="Arial Narrow"/>
                        </a:rPr>
                        <a:t>(Вывод: количество нарушений на 1 инспектора при плановых проверках возросло несмотря на уменьшение количества инспекторского состава)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e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 Narrow"/>
                        </a:rPr>
                        <a:t>+ 34 %</a:t>
                      </a:r>
                      <a:endParaRPr b="0" lang="en-US" sz="14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04" name="Прямоугольник 3"/>
          <p:cNvSpPr/>
          <p:nvPr/>
        </p:nvSpPr>
        <p:spPr>
          <a:xfrm>
            <a:off x="250920" y="36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Диаграмма 7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488360" cy="48276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колько % изменилось количество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являемых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авонарушени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и проведении плановых проверок в 2024 году в сравнении с 2023 годом</a:t>
            </a:r>
            <a:endParaRPr b="0" lang="en-US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07" name="Прямая соединительная линия 3"/>
          <p:cNvSpPr/>
          <p:nvPr/>
        </p:nvSpPr>
        <p:spPr>
          <a:xfrm>
            <a:off x="2195640" y="4941720"/>
            <a:ext cx="530208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TextBox 8"/>
          <p:cNvSpPr/>
          <p:nvPr/>
        </p:nvSpPr>
        <p:spPr>
          <a:xfrm>
            <a:off x="2916360" y="4149720"/>
            <a:ext cx="28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ВЕЛИЧЕНИЕ НА 8 %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9" name="Прямоугольник 5"/>
          <p:cNvSpPr/>
          <p:nvPr/>
        </p:nvSpPr>
        <p:spPr>
          <a:xfrm>
            <a:off x="250920" y="36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Анализ основных показателей надзорной деятельности в период с 01.01.2024 по 01.06.2024 и аналогичный период 2023  года</a:t>
            </a:r>
            <a:endParaRPr b="0" lang="en-US" sz="2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6"/>
          <p:cNvSpPr/>
          <p:nvPr/>
        </p:nvSpPr>
        <p:spPr>
          <a:xfrm>
            <a:off x="754200" y="26028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законодательно установленных процедур регулирования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324000" y="98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324000" y="8413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изводственный контроль за соблюдением требований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68200" y="2276640"/>
          <a:ext cx="8444160" cy="3044520"/>
        </p:xfrm>
        <a:graphic>
          <a:graphicData uri="http://schemas.openxmlformats.org/drawingml/2006/table">
            <a:tbl>
              <a:tblPr/>
              <a:tblGrid>
                <a:gridCol w="4222800"/>
                <a:gridCol w="4221360"/>
              </a:tblGrid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рдловская, Челябинская и Курганская области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8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Закреплено за отделом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Рассмотрено отчетов о ПК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66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Деятельность не ведется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0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66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ведений не предоставлено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: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  <p:sp>
        <p:nvSpPr>
          <p:cNvPr id="614" name="TextBox 11"/>
          <p:cNvSpPr/>
          <p:nvPr/>
        </p:nvSpPr>
        <p:spPr>
          <a:xfrm>
            <a:off x="216000" y="5445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ланируется привлечение к административной ответственности, организаций не предоставивших отчет об организации производственного контроля за соблюдением требований промышленной безопас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5" name="Прямоугольник 1"/>
          <p:cNvSpPr/>
          <p:nvPr/>
        </p:nvSpPr>
        <p:spPr>
          <a:xfrm>
            <a:off x="216000" y="162396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а межрегиональным отделом металлургического надзора закреплено 152 предприятий по контролю отчетов о ПК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законодательно установленных процедур регулирования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7" name="TextBox 7"/>
          <p:cNvSpPr/>
          <p:nvPr/>
        </p:nvSpPr>
        <p:spPr>
          <a:xfrm>
            <a:off x="358920" y="1341360"/>
            <a:ext cx="828036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состоянию на 01.06.2024, под надзором межрегионального отдела металлургического надзора находится 1537 технических устройств, в т.ч. 190 электродуговых печей, 205 индукционных печей и 175 технических устройств (различного вида) по получению цветных металлов. Примерное количество зданий и сооружений – 388, включая дымовые трубы и другие сооружения. При этом здания и сооружения отработавшие нормативный срок эксплуатации подлежат экспертизе промышленной безопасности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Фактов эксплуатации зданий и сооружений без проведения экспертизы промышленной безопасности, не зафиксировано. Однако, имеются отдельные случаи несвоевременного проведения очередной экспертизы промышленной безопасности, а также несвоевременного выполнения мероприятий предписанных экспертизой промышленной безопасности, за что применяется административное наказание, вплоть до приостановки деятельности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8" name="Прямоугольник 3"/>
          <p:cNvSpPr/>
          <p:nvPr/>
        </p:nvSpPr>
        <p:spPr>
          <a:xfrm>
            <a:off x="2471760" y="763560"/>
            <a:ext cx="46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Экспертиза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6"/>
          <p:cNvSpPr/>
          <p:nvPr/>
        </p:nvSpPr>
        <p:spPr>
          <a:xfrm>
            <a:off x="76500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соблюдения законодательно установленных процедур регулирования промышленной безопасности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0" name="Прямоугольник 1"/>
          <p:cNvSpPr/>
          <p:nvPr/>
        </p:nvSpPr>
        <p:spPr>
          <a:xfrm>
            <a:off x="660960" y="76356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трахование ответственности за причинения вреда при эксплуатации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1" name="Прямоугольник 4"/>
          <p:cNvSpPr/>
          <p:nvPr/>
        </p:nvSpPr>
        <p:spPr>
          <a:xfrm>
            <a:off x="225360" y="1484280"/>
            <a:ext cx="87282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металлургического надзора находится 157 организаций эксплуатирующих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состоянию на 01.06.2024, полис страхования отсутствует у 10 предприятий, которые, в настоящий момент, не ведут лицензионную деятельность. Таким образом, процент организации с отсутствующим полисом страхования, составляет – 6,5 %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 данным предприятиям будет проводиться проверка на наличие признаков опасности с последующим исключением из государственного реестра основных производственных объектов.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Прямоугольник 1"/>
          <p:cNvSpPr/>
          <p:nvPr/>
        </p:nvSpPr>
        <p:spPr>
          <a:xfrm>
            <a:off x="2411280" y="18900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 показателей лицензирования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3" name="Прямоугольник 2"/>
          <p:cNvSpPr/>
          <p:nvPr/>
        </p:nvSpPr>
        <p:spPr>
          <a:xfrm>
            <a:off x="108000" y="603360"/>
            <a:ext cx="903600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 надзором межрегионального отдела металлургического надзора находится 152 организации эксплуатирующие опасные производственные объекты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Без лицензии числится 1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предприятий на которых лицензионная деятельность не ведется по следующим причинам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квидации из ЕГРЮ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ведено конкурсное управление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тсутствует эксплуатирующий персонал, эксплуатация ОПО не ведется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5" descr="C:\Users\v.noskov\Desktop\uralskiy.jpg"/>
          <p:cNvPicPr/>
          <p:nvPr/>
        </p:nvPicPr>
        <p:blipFill>
          <a:blip r:embed="rId1"/>
          <a:stretch/>
        </p:blipFill>
        <p:spPr>
          <a:xfrm>
            <a:off x="596880" y="1481040"/>
            <a:ext cx="4681440" cy="4730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-7920" y="475920"/>
            <a:ext cx="915192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остоянию на 01.06.2024 г. Уральским управлением Ростехнадзора зарегистрировано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57 организаци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эксплуатирующих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12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О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днадзорных металлургическому надзору</a:t>
            </a:r>
            <a:endParaRPr b="0" lang="en-US" sz="1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61" name="TextBox 1"/>
          <p:cNvSpPr/>
          <p:nvPr/>
        </p:nvSpPr>
        <p:spPr>
          <a:xfrm>
            <a:off x="6026040" y="2276640"/>
            <a:ext cx="302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Челяби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62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40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урганская область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10 ОПО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2" name="Овал 1"/>
          <p:cNvSpPr/>
          <p:nvPr/>
        </p:nvSpPr>
        <p:spPr>
          <a:xfrm>
            <a:off x="971640" y="2471760"/>
            <a:ext cx="3671640" cy="3602160"/>
          </a:xfrm>
          <a:prstGeom prst="ellipse">
            <a:avLst/>
          </a:prstGeom>
          <a:noFill/>
          <a:ln w="25560">
            <a:solidFill>
              <a:srgbClr val="4272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3" name="Прямоугольник 2"/>
          <p:cNvSpPr/>
          <p:nvPr/>
        </p:nvSpPr>
        <p:spPr>
          <a:xfrm>
            <a:off x="0" y="115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арактеристика поднадзорных производств и объекто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Прямоугольник 4"/>
          <p:cNvSpPr/>
          <p:nvPr/>
        </p:nvSpPr>
        <p:spPr>
          <a:xfrm>
            <a:off x="1403280" y="11592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щая оценка состояния безопасности и противоаварийная устойчивость предприятий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5" name="Прямоугольник 5"/>
          <p:cNvSpPr/>
          <p:nvPr/>
        </p:nvSpPr>
        <p:spPr>
          <a:xfrm>
            <a:off x="395280" y="693720"/>
            <a:ext cx="8353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целях обеспечения готовности организаций, эксплуатирующих опасные производственные объекты, к действиям по локализации и ликвидации последствий аварий, на всех ОПО разработан план мероприятий по локализации и ликвидации последствий аварий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существляется контроль за проведением учебных тревог, в том числе при проведении постоянного государственного надзора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се предприятия имеют договор аварийного прикрытия с аварийно-спасательными формированиями (АСФ) или аварийно-спасательными службами (АСС). У некоторых предприятий имеются собственные АСС или АСФ в виде отдельных подразделений или отдельных юридических лиц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скольку, нормативные документы по деятельности газоспасательных служб имеют рекомендательный характер и не входят в приказ Ростехнадзора от 02.03.2021 № 81 «Об утверждении перечней нормативных правовых актов (их отдельных положений), содержащих обязательные требования, оценка соблюдения которых осуществляется в рамках государственного контроля (надзора), привлечения к административной ответственности», -  деятельность таких служб не подлежит проверке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тивоаварийную устойчивость опасных производственных объектов, поднадзорных межрегиональному отделу металлургического надзора Уральского управления Ростехнадзора можно охарактеризовать, как – удовлетворительную.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95280" y="1125000"/>
            <a:ext cx="547236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mbria"/>
              </a:rPr>
              <a:t>СПАСИБО ЗА ВНИМАНИЕ</a:t>
            </a:r>
            <a:endParaRPr b="0" lang="en-US" sz="4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"/>
          <p:cNvPicPr/>
          <p:nvPr/>
        </p:nvPicPr>
        <p:blipFill>
          <a:blip r:embed="rId1"/>
          <a:srcRect l="3750" t="13675" r="13931" b="10567"/>
          <a:stretch/>
        </p:blipFill>
        <p:spPr>
          <a:xfrm>
            <a:off x="-3240" y="0"/>
            <a:ext cx="9147240" cy="685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65" name="Диаграмма 4" descr=""/>
          <p:cNvPicPr/>
          <p:nvPr/>
        </p:nvPicPr>
        <p:blipFill>
          <a:blip r:embed="rId2"/>
          <a:stretch/>
        </p:blipFill>
        <p:spPr>
          <a:xfrm>
            <a:off x="57240" y="150840"/>
            <a:ext cx="5683320" cy="67276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1"/>
          <p:cNvSpPr/>
          <p:nvPr/>
        </p:nvSpPr>
        <p:spPr>
          <a:xfrm>
            <a:off x="4067280" y="118908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спределение ОПО по классам опасности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7" name="Прямоугольник 6"/>
          <p:cNvSpPr/>
          <p:nvPr/>
        </p:nvSpPr>
        <p:spPr>
          <a:xfrm>
            <a:off x="-27000" y="23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арактеристика поднадзорных производств и объекто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698652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01.06.2024 г. на территории Уральского управления Ростехнадзора </a:t>
            </a:r>
            <a:br>
              <a:rPr sz="1600"/>
            </a:b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классом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асности зарегистрировано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ОПО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надзорных металлургическому надзору (объекты постоянного надзора)</a:t>
            </a:r>
            <a:endParaRPr b="0" lang="en-US" sz="16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569" name="Picture 4" descr=""/>
          <p:cNvPicPr/>
          <p:nvPr/>
        </p:nvPicPr>
        <p:blipFill>
          <a:blip r:embed="rId1"/>
          <a:srcRect l="3452" t="25051" r="49963" b="36474"/>
          <a:stretch/>
        </p:blipFill>
        <p:spPr>
          <a:xfrm>
            <a:off x="1116000" y="1459080"/>
            <a:ext cx="6986520" cy="4608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570" name="Прямоугольник 3"/>
          <p:cNvSpPr/>
          <p:nvPr/>
        </p:nvSpPr>
        <p:spPr>
          <a:xfrm>
            <a:off x="0" y="44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Характеристика поднадзорных производств и объекто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Рисунок 6" descr=""/>
          <p:cNvPicPr/>
          <p:nvPr/>
        </p:nvPicPr>
        <p:blipFill>
          <a:blip r:embed="rId1"/>
          <a:stretch/>
        </p:blipFill>
        <p:spPr>
          <a:xfrm>
            <a:off x="-757080" y="307800"/>
            <a:ext cx="2993760" cy="160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2" name=""/>
          <p:cNvGraphicFramePr/>
          <p:nvPr/>
        </p:nvGraphicFramePr>
        <p:xfrm>
          <a:off x="434880" y="5229360"/>
          <a:ext cx="8345520" cy="1269720"/>
        </p:xfrm>
        <a:graphic>
          <a:graphicData uri="http://schemas.openxmlformats.org/drawingml/2006/table">
            <a:tbl>
              <a:tblPr/>
              <a:tblGrid>
                <a:gridCol w="1328760"/>
                <a:gridCol w="3775320"/>
                <a:gridCol w="32414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дприятие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тепень травмирования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333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23.02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6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АО «Завод Уралпрокат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8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6.04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6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ПАО «ММК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8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2.05.2023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60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mbria"/>
                          <a:ea typeface="Cambria"/>
                        </a:rPr>
                        <a:t>AO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 «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ЕВРАЗ НТМК»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Групповой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 (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тяжёлый+1лёгкий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Rockwell"/>
                        </a:rPr>
                        <a:t>)</a:t>
                      </a:r>
                      <a:endParaRPr b="0" lang="en-US" sz="12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</a:tbl>
          </a:graphicData>
        </a:graphic>
      </p:graphicFrame>
      <p:sp>
        <p:nvSpPr>
          <p:cNvPr id="573" name="Прямоугольник 1"/>
          <p:cNvSpPr/>
          <p:nvPr/>
        </p:nvSpPr>
        <p:spPr>
          <a:xfrm>
            <a:off x="380880" y="4797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ичество несчастных случаев за аналогичный период 2023 год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4" name="Прямоугольник 2"/>
          <p:cNvSpPr/>
          <p:nvPr/>
        </p:nvSpPr>
        <p:spPr>
          <a:xfrm>
            <a:off x="250920" y="17319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ичество несчастных случаев с 1 января по 1 июня 2024 год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5" name="Прямоугольник 12"/>
          <p:cNvSpPr/>
          <p:nvPr/>
        </p:nvSpPr>
        <p:spPr>
          <a:xfrm>
            <a:off x="-27000" y="123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431640" y="2152800"/>
          <a:ext cx="8352000" cy="2625480"/>
        </p:xfrm>
        <a:graphic>
          <a:graphicData uri="http://schemas.openxmlformats.org/drawingml/2006/table">
            <a:tbl>
              <a:tblPr/>
              <a:tblGrid>
                <a:gridCol w="1314720"/>
                <a:gridCol w="3578040"/>
                <a:gridCol w="3459240"/>
              </a:tblGrid>
              <a:tr h="7038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едприятие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тепень травмирования</a:t>
                      </a:r>
                      <a:endParaRPr b="0" lang="en-US" sz="18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6c5ef"/>
                    </a:solidFill>
                  </a:tcPr>
                </a:tc>
              </a:tr>
              <a:tr h="40032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8.01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ООО «ЗМЗ»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Смертельный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4804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9.01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ПАО «ММК»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42300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5.01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marL="444600"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АО «ПРОМ-СОРТ Урал» (расследование       продолжается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4804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6.01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АО «УММ-2»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  <a:tr h="24804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12.03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ООО «КЛЗ»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 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eaf9"/>
                    </a:solidFill>
                  </a:tcPr>
                </a:tc>
              </a:tr>
              <a:tr h="248040">
                <a:tc>
                  <a:txBody>
                    <a:bodyPr lIns="73080" rIns="73080" tIns="36360" bIns="36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03.05.2024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ООО «АЛМЕТ» (расследование продолжается)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Cambria"/>
                        </a:rPr>
                        <a:t>Тяжелый</a:t>
                      </a:r>
                      <a:endParaRPr b="0" lang="en-US" sz="1000" spc="-1" strike="noStrike">
                        <a:solidFill>
                          <a:srgbClr val="00206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5f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578" name="Диаграмма 3" descr=""/>
          <p:cNvPicPr/>
          <p:nvPr/>
        </p:nvPicPr>
        <p:blipFill>
          <a:blip r:embed="rId1"/>
          <a:stretch/>
        </p:blipFill>
        <p:spPr>
          <a:xfrm>
            <a:off x="200160" y="255600"/>
            <a:ext cx="8743680" cy="6222960"/>
          </a:xfrm>
          <a:prstGeom prst="rect">
            <a:avLst/>
          </a:prstGeom>
          <a:ln w="0">
            <a:noFill/>
          </a:ln>
        </p:spPr>
      </p:pic>
      <p:sp>
        <p:nvSpPr>
          <p:cNvPr id="579" name="Прямоугольник 4"/>
          <p:cNvSpPr/>
          <p:nvPr/>
        </p:nvSpPr>
        <p:spPr>
          <a:xfrm>
            <a:off x="0" y="1224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казатели аварийности и производственного травматизма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ик 6"/>
          <p:cNvSpPr/>
          <p:nvPr/>
        </p:nvSpPr>
        <p:spPr>
          <a:xfrm>
            <a:off x="2135880" y="642960"/>
            <a:ext cx="481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ООО «Златоустовский металлургический завод»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1" name="Прямоугольник 11"/>
          <p:cNvSpPr/>
          <p:nvPr/>
        </p:nvSpPr>
        <p:spPr>
          <a:xfrm>
            <a:off x="108000" y="1125360"/>
            <a:ext cx="8928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08.01.2024 г. произошел несчастный случай со смертельным исходом вальцовщиком стана горячей прокатки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сле окончания проката на клети № 1 вальцовщик стана горячей прокатки, не подав сигнал операторам поста управления клетями № 1 и № 2, и не включив блокировку рольганга 3-го стола, начал производить настройку проводок 2 клети. Завершив работу, направился от клети № 2, но потерял равновесие, в результате чего рука попала между валками в верхний горизонт. Оператор поста управления клети № 2 стана горячей прокатки увидел в верхнем горизонте и закричал оператору поста управления клети № 1, чтобы он остановил стан. Мастер, работающий оператором поста управления клети № 1, остановил стан. Вальцовщик стана горячей прокатки услышал, что стан остановился, повернулся к клети № 2 и увидел зажатого между клетей вальцовщика стана горячей прокатки, который скончался на месте происшествия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2" name="Прямоугольник 9"/>
          <p:cNvSpPr/>
          <p:nvPr/>
        </p:nvSpPr>
        <p:spPr>
          <a:xfrm>
            <a:off x="-41400" y="123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несчастных случае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3" name="Прямоугольник 2"/>
          <p:cNvSpPr/>
          <p:nvPr/>
        </p:nvSpPr>
        <p:spPr>
          <a:xfrm>
            <a:off x="3852000" y="409896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ПАО «ММК»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4" name="Прямоугольник 4"/>
          <p:cNvSpPr/>
          <p:nvPr/>
        </p:nvSpPr>
        <p:spPr>
          <a:xfrm>
            <a:off x="141120" y="4437000"/>
            <a:ext cx="886176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09.01.2024 г. в 17:30 произошел тяжелый несчастный случай с нагревальщиком металла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9 января 2024 года в 17 часов 30 минут на стане 450 нагревальщик металла производил удаление запутавшейся проволоки из вязальной машины № 1 при помощи ручных ножниц. Не сумев удалить проволоку, находясь на полу, поднялся на технологические выступы сбоку рольганга, а после левой ногой перелез на рольганг. При заходе в вязальную машину № 1 пачка металла сбила, находившегося левой ногой на рольганге нагревальщика и вывезла его между вязальными машинами №№ 1 и 2. Оператор ПУ-3, увидев нагревальщика на мониторе камеры слежения на рольганге между вязальными машинами, незамедлительно остановил загрузку участка, нажав кнопку остановки. Работники стана помогли нагревальщику выбраться с рольганга, после чего он был доставлен в Центральную клиническая медико-санитарная часть» г. Магнитогорска. Степень тяжести определена, как тяжелая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Прямоугольник 9"/>
          <p:cNvSpPr/>
          <p:nvPr/>
        </p:nvSpPr>
        <p:spPr>
          <a:xfrm>
            <a:off x="-414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несчастных случае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6" name="Прямоугольник 1"/>
          <p:cNvSpPr/>
          <p:nvPr/>
        </p:nvSpPr>
        <p:spPr>
          <a:xfrm>
            <a:off x="3138840" y="550800"/>
            <a:ext cx="28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AO «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М-СОРТ Урал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7" name="Прямоугольник 2"/>
          <p:cNvSpPr/>
          <p:nvPr/>
        </p:nvSpPr>
        <p:spPr>
          <a:xfrm>
            <a:off x="85680" y="981000"/>
            <a:ext cx="8928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15.01.2024 в 20 ч. 30 на опасном производственном объекте «Цех электросталеплавильный металлургического производства» произошел тяжелый несчастный случай с подручным сталевара электропечи ЭСПЦ-1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одручный сталевара электропечи совместно с машинистом крана металлургического производства производили работы по перемещению крышки для малого свода ДСП на резервный свод с применением подъемного сооружения (мостового крана). После установки крышки на резервный свод подручный сталевара отцепил съемное грузозахватное приспособление от крышки малого свода. Машинист крана осуществил подъем крюка и начал движение моста крана. При перемещении по малому своду подручный сталевара упал спиной вперед на площадку резервного свода ДСП-2, при падении он ударился головой об ограждение (перила) стенда для хранения резервного свода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8" name="Прямоугольник 3"/>
          <p:cNvSpPr/>
          <p:nvPr/>
        </p:nvSpPr>
        <p:spPr>
          <a:xfrm>
            <a:off x="3771000" y="33577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AO «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ММ-2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9" name="Прямоугольник 5"/>
          <p:cNvSpPr/>
          <p:nvPr/>
        </p:nvSpPr>
        <p:spPr>
          <a:xfrm>
            <a:off x="179280" y="3860640"/>
            <a:ext cx="883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16 января 2024 года в 13:30 произошел тяжелый несчастный случай с монтажником технологического оборудования и связанных с ним конструкций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Примерно в 13.10 - 13.20 двое монтажников технологического оборудования и связанных с ним конструкций (далее – монтажники) поднялись по стационарным лестницам на стационарную площадку, расположенную на отм. +10,69 м чтобы визуально осмотреть безопасные пути следования к месту производства работ по демонтажу газохода. Завершив осмотр, один из монтажников направился вниз, спустившись на нулевую отметку -  услышал крик, побежал наверх выяснить причину крика, но не найдя там коллегу поспешил на нулевую отметку доложить электрогазосварщику ручной сварки СРМУ-6. Поднявшись наверх для поиска монтажника его обнаружили на стационарной площадке на </a:t>
            </a:r>
            <a:br>
              <a:rPr sz="1400"/>
            </a:b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отм. + 6,160 м. лежавшего на площадке в сознании, на левом боку. В результате падения получил тяжелые травмы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Прямоугольник 4"/>
          <p:cNvSpPr/>
          <p:nvPr/>
        </p:nvSpPr>
        <p:spPr>
          <a:xfrm>
            <a:off x="1996560" y="369720"/>
            <a:ext cx="50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ambria"/>
              </a:rPr>
              <a:t>ООО «Катав-Ивановский литейный завод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1" name="Прямоугольник 8"/>
          <p:cNvSpPr/>
          <p:nvPr/>
        </p:nvSpPr>
        <p:spPr>
          <a:xfrm>
            <a:off x="324000" y="746280"/>
            <a:ext cx="864072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19 марта 2024 года в 12:40 произошел тяжелый несчастный случай со слесарем-ремонтником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Механик дал задание трем слесарям-ремонтникам на выполнение ремонтных работ по монтажу выпускной крышки люка на бегунах смешивающих литейных с вертикально вращающимися катками, модели 1А11М. После установки крышки, один из слесарей-ремонтников залез во внутрь кожуха смешивающих бегунов, и сидя на корточках, стал рассматривать плотность прилегания крышки люка. Слесарю-ремонтнику Щербакову А.В. показали кнопку на пульте управления, на которую надо нажать, с целью открытия выпускного люка. В это время третий слесарь-ремонтник направился наблюдать за работой напарника снаружи, с окна, которое находится с противоположной стороны бегунов. После команды первого, Щербаков А.В. нажал кнопку, запустившую механизм вращения бегунов. В результате запуска бегунов, вращающихся частей устройства, слесарю-ремонтнику литейного цеха находящемуся внутри кожуха устройства, были причинены телесные повреждения.</a:t>
            </a:r>
            <a:endParaRPr b="0" lang="en-US" sz="1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2" name="Прямоугольник 9"/>
          <p:cNvSpPr/>
          <p:nvPr/>
        </p:nvSpPr>
        <p:spPr>
          <a:xfrm>
            <a:off x="-414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писание обстоятельств и причин несчастных случаев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3" name="Прямоугольник 2"/>
          <p:cNvSpPr/>
          <p:nvPr/>
        </p:nvSpPr>
        <p:spPr>
          <a:xfrm>
            <a:off x="3669840" y="43257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mbria"/>
                <a:ea typeface="Cambria"/>
              </a:rPr>
              <a:t>ООО «АЛМЕТ»</a:t>
            </a:r>
            <a:endParaRPr b="0" lang="en-US" sz="18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94" name="Прямоугольник 3"/>
          <p:cNvSpPr/>
          <p:nvPr/>
        </p:nvSpPr>
        <p:spPr>
          <a:xfrm>
            <a:off x="324000" y="486900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03.05.2024 произошел тяжелый несчастный случай с плавильщиком металла и сплавов.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03.05.2024 в 5.00 утра в литейном цехе ООО «АЛМЕТ» плавильщик металла и сплавов на печной площадке оступился, попал правой ногой в тигель печи, получив ожог ноги. Травмированный был госпитализирован бригадой скорой помощи.</a:t>
            </a:r>
            <a:endParaRPr b="0" lang="en-US" sz="1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05:35:47Z</dcterms:created>
  <dc:creator>ОПО</dc:creator>
  <dc:description/>
  <dc:language>en-US</dc:language>
  <cp:lastModifiedBy>Романовских Владислав Дмитриевич</cp:lastModifiedBy>
  <dcterms:modified xsi:type="dcterms:W3CDTF">2024-06-05T11:10:03Z</dcterms:modified>
  <cp:revision>614</cp:revision>
  <dc:subject/>
  <dc:title>Презентация PowerPoint</dc:title>
</cp:coreProperties>
</file>